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462A71C-4D83-422E-9EEF-3C2655B5C95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BD32A19-2FFB-4CB5-9260-519613EA249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1AB1-6927-4D4A-923A-C34729F822A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7A4E-A3C2-4560-A212-A1F20A20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C6F5-97CD-47A1-974D-5CCF244B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5F26-FBC0-414B-A8AC-99F9582A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72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0036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44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72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0036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6B07-FA10-4331-84EB-F4A797CA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602A-CD9A-4301-8AA3-3799BA49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7071-0490-4B91-BD45-0878DC45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2D59-93D2-4389-91AA-B413333F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A795-7E7A-4D2B-A921-6E1D3F2E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8EE1-72D2-44A6-9869-8B5F4AC7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59BB-495C-43FF-AADE-42E99439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9740-B051-4A75-A4BF-8CC7EBFD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BB86-F021-417E-82ED-53F6C9DC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C034-1F0E-4025-B4D6-2B037875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EA36-AC1C-4EDF-912B-4D17D4F1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86EB-FCBB-4919-B9DB-396DD3EC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1562-5E10-4961-ADF0-3490AA32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72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0036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44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72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0036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7CB1-C6C7-4AAF-8879-A3BD22EA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94B6-769B-4222-9493-8CAA30FA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855B-291A-42A9-9D95-3771A1BC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DE62-730B-4DAF-AFD7-41B5DA17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DC2D-BB54-4213-8B8D-1483A2D6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C2F-EC87-401E-8C26-5F6491B7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E578-CCB2-430B-B6FE-A3C9463F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0094-1942-4742-B48E-BCDF16C9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700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20720" indent="-27144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665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B19E-CDC3-4E9B-BB30-D2C5A3ADD176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260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971640" y="1028880"/>
            <a:ext cx="7996320" cy="0"/>
          </a:xfrm>
          <a:prstGeom prst="line">
            <a:avLst/>
          </a:prstGeom>
          <a:ln w="1908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1109520" y="264960"/>
            <a:ext cx="8263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0" y="2819520"/>
            <a:ext cx="755640" cy="4038480"/>
          </a:xfrm>
          <a:prstGeom prst="rect">
            <a:avLst/>
          </a:prstGeom>
          <a:gradFill rotWithShape="0">
            <a:gsLst>
              <a:gs pos="0">
                <a:srgbClr val="00458a"/>
              </a:gs>
              <a:gs pos="100000">
                <a:srgbClr val="1f5c98"/>
              </a:gs>
            </a:gsLst>
            <a:lin ang="5400000"/>
          </a:gradFill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9"/>
          <p:cNvSpPr/>
          <p:nvPr/>
        </p:nvSpPr>
        <p:spPr>
          <a:xfrm>
            <a:off x="0" y="0"/>
            <a:ext cx="755640" cy="2852640"/>
          </a:xfrm>
          <a:prstGeom prst="rect">
            <a:avLst/>
          </a:prstGeom>
          <a:noFill/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logo_mcc_orizzontale NO MCC"/>
          <p:cNvPicPr/>
          <p:nvPr/>
        </p:nvPicPr>
        <p:blipFill>
          <a:blip r:embed="rId2"/>
          <a:stretch/>
        </p:blipFill>
        <p:spPr>
          <a:xfrm>
            <a:off x="82440" y="-171360"/>
            <a:ext cx="563760" cy="32511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0" y="6151680"/>
            <a:ext cx="789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E872-6B91-4646-9232-C0AEC20312CA}" type="slidenum">
              <a:rPr b="1" lang="it-IT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5"/>
          <p:cNvSpPr/>
          <p:nvPr/>
        </p:nvSpPr>
        <p:spPr>
          <a:xfrm>
            <a:off x="1046160" y="3357720"/>
            <a:ext cx="7773840" cy="0"/>
          </a:xfrm>
          <a:prstGeom prst="line">
            <a:avLst/>
          </a:prstGeom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6"/>
          <p:cNvSpPr/>
          <p:nvPr/>
        </p:nvSpPr>
        <p:spPr>
          <a:xfrm>
            <a:off x="1046160" y="4149720"/>
            <a:ext cx="7773840" cy="0"/>
          </a:xfrm>
          <a:prstGeom prst="line">
            <a:avLst/>
          </a:prstGeom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2"/>
          <p:cNvSpPr/>
          <p:nvPr/>
        </p:nvSpPr>
        <p:spPr>
          <a:xfrm>
            <a:off x="0" y="0"/>
            <a:ext cx="755640" cy="6858000"/>
          </a:xfrm>
          <a:prstGeom prst="rect">
            <a:avLst/>
          </a:prstGeom>
          <a:gradFill rotWithShape="0">
            <a:gsLst>
              <a:gs pos="0">
                <a:srgbClr val="00458a"/>
              </a:gs>
              <a:gs pos="100000">
                <a:srgbClr val="1f5c98"/>
              </a:gs>
            </a:gsLst>
            <a:lin ang="5400000"/>
          </a:gradFill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5"/>
          <p:cNvSpPr/>
          <p:nvPr/>
        </p:nvSpPr>
        <p:spPr>
          <a:xfrm>
            <a:off x="1042920" y="6165720"/>
            <a:ext cx="7774200" cy="0"/>
          </a:xfrm>
          <a:prstGeom prst="line">
            <a:avLst/>
          </a:prstGeom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8" descr="logo_mcc_orizzontale NO MCC"/>
          <p:cNvPicPr/>
          <p:nvPr/>
        </p:nvPicPr>
        <p:blipFill>
          <a:blip r:embed="rId2"/>
          <a:stretch/>
        </p:blipFill>
        <p:spPr>
          <a:xfrm>
            <a:off x="361800" y="477720"/>
            <a:ext cx="4978440" cy="863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700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20720" indent="-27144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04292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3EFE-CCDB-43F8-96E9-FF403C468365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7652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436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2048-1081-40B8-A40B-80E6AA7A883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3"/>
          <p:cNvSpPr/>
          <p:nvPr/>
        </p:nvSpPr>
        <p:spPr>
          <a:xfrm>
            <a:off x="0" y="6151680"/>
            <a:ext cx="78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44E5-2100-41B1-B81A-0992D584C6CB}" type="slidenum">
              <a:rPr b="1" lang="it-IT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826920" y="252360"/>
            <a:ext cx="8137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ttuazione del decreto 26 giugno 2012: le percentuali di copertura e l’importo massimo garant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0"/>
          <p:cNvSpPr/>
          <p:nvPr/>
        </p:nvSpPr>
        <p:spPr>
          <a:xfrm>
            <a:off x="971640" y="1105920"/>
            <a:ext cx="7993080" cy="234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sp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Le percentuali di copertura e l’importo massimo garanti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asellaDiTesto 1"/>
          <p:cNvSpPr/>
          <p:nvPr/>
        </p:nvSpPr>
        <p:spPr>
          <a:xfrm>
            <a:off x="1001880" y="3716280"/>
            <a:ext cx="78786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Operazioni a favore delle piccole imprese dell’indotto di imprese in amministrazione straordinaria di durata non inferiore a 5 anni: quota di copertura 80% e importo massimo garantito € 1,5 ml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sellaDiTesto 39"/>
          <p:cNvSpPr/>
          <p:nvPr/>
        </p:nvSpPr>
        <p:spPr>
          <a:xfrm>
            <a:off x="1001880" y="1383480"/>
            <a:ext cx="7878600" cy="31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Operazioni di Garanzia</a:t>
            </a: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diret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asellaDiTesto 40"/>
          <p:cNvSpPr/>
          <p:nvPr/>
        </p:nvSpPr>
        <p:spPr>
          <a:xfrm>
            <a:off x="1001880" y="4083840"/>
            <a:ext cx="7878600" cy="31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Operazioni di Controgaranz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sellaDiTesto 41"/>
          <p:cNvSpPr/>
          <p:nvPr/>
        </p:nvSpPr>
        <p:spPr>
          <a:xfrm>
            <a:off x="1001880" y="6453360"/>
            <a:ext cx="78786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Operazioni a favore delle piccole imprese dell’indotto di imprese in amministrazione straordinaria di durata non inferiore a 5 anni: quota di copertura 80% di 80% e importo massimo garantito € 1,5 ml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"/>
          <p:cNvPicPr/>
          <p:nvPr/>
        </p:nvPicPr>
        <p:blipFill>
          <a:blip r:embed="rId1"/>
          <a:stretch/>
        </p:blipFill>
        <p:spPr>
          <a:xfrm>
            <a:off x="1042920" y="1733400"/>
            <a:ext cx="7777080" cy="1982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"/>
          <p:cNvPicPr/>
          <p:nvPr/>
        </p:nvPicPr>
        <p:blipFill>
          <a:blip r:embed="rId2"/>
          <a:stretch/>
        </p:blipFill>
        <p:spPr>
          <a:xfrm>
            <a:off x="1042920" y="4437000"/>
            <a:ext cx="77770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09:41:48Z</dcterms:created>
  <dc:creator>ccara</dc:creator>
  <dc:description/>
  <dc:language>en-US</dc:language>
  <cp:lastModifiedBy>FBrunori</cp:lastModifiedBy>
  <cp:lastPrinted>2012-11-08T12:02:55Z</cp:lastPrinted>
  <dcterms:modified xsi:type="dcterms:W3CDTF">2012-12-05T18:38:12Z</dcterms:modified>
  <cp:revision>470</cp:revision>
  <dc:subject/>
  <dc:title>Diapositiva 1</dc:title>
</cp:coreProperties>
</file>